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AA10-60EF-4E46-8BF6-B8A26978E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85520" y="418068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643A-EB88-4AA0-BAE9-38377F33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584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C1A5-CEBE-4C41-ACAC-8A4A5BFAE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384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216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8552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384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216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2C26-6F10-4AF5-927A-A420C4A9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756F-F562-414E-8AF9-1B18C6749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8BC1-7088-460F-84A4-750BFFA5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EBA4-2412-4147-BE45-57026AD0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97FE-9898-4BC1-AFFA-38F9C026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F9C0-F82A-4D3A-913D-2A8E13CB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14240" y="2854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517A-36C0-465C-8253-97A0A7AF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4B15-821B-4E31-A02D-48C10858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2603-E9CA-40E9-832E-00075DE5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584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9192-A9C7-4DD2-9F64-88F51230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4D90-6C6E-4443-A4E8-ABEDA1DE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85520" y="418068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9441D-5349-4FBD-B560-3A349CD1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584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4FC4-E7FE-41D7-B9A0-BCE4699D1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384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216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8552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384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216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CBB5-1F96-4FA5-AAD9-C6CC6C88F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0053-09AC-4371-BF53-F68AABFF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0480-E204-42D5-ADA9-06B7CD48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7B8A-A4B5-439A-B121-94B9001F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4240" y="2854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64A1-7344-4972-8576-AE4D3F50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EBB6-7FCE-4E40-AA10-6BC90596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584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0582-E411-4354-AA90-823A809D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6E38-21B2-476E-8A86-B4DAB742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1E4A-BDA9-4746-B8E4-3BE3EFA952D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BCCD-5C54-4610-B366-1068A552D6F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71480" y="1142640"/>
            <a:ext cx="634356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00280" y="3714840"/>
            <a:ext cx="540072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с.Павловс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Алтайский кра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85520" y="1643040"/>
            <a:ext cx="81579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3142800" y="1428480"/>
            <a:ext cx="58006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moderntheorie.com/wp-content/uploads/2010/11/E-mail-is-very-important-to-the-Company.jp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nppbillon.ru/images/e-mail.p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3" descr=""/>
          <p:cNvPicPr/>
          <p:nvPr/>
        </p:nvPicPr>
        <p:blipFill>
          <a:blip r:embed="rId2"/>
          <a:stretch/>
        </p:blipFill>
        <p:spPr>
          <a:xfrm>
            <a:off x="1500120" y="142884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d:\Мои документы\Мои рисунки\e-mail.png"/>
          <p:cNvPicPr/>
          <p:nvPr/>
        </p:nvPicPr>
        <p:blipFill>
          <a:blip r:embed="rId3"/>
          <a:stretch/>
        </p:blipFill>
        <p:spPr>
          <a:xfrm>
            <a:off x="1571760" y="30718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07:55:38Z</dcterms:created>
  <dc:creator>Comp</dc:creator>
  <dc:description/>
  <dc:language>en-US</dc:language>
  <cp:lastModifiedBy>Comp</cp:lastModifiedBy>
  <dcterms:modified xsi:type="dcterms:W3CDTF">2011-07-27T08:00:47Z</dcterms:modified>
  <cp:revision>1</cp:revision>
  <dc:subject/>
  <dc:title>Слайд 1</dc:title>
</cp:coreProperties>
</file>